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748F-1D61-456A-BA25-02793C79C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FBE5-653F-4CF1-B986-3AB22C111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4C2C-D2D9-4CC4-9C10-DBA40D3C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AE19-DFE0-4258-A6B5-353E7005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654F-66F6-43CC-8EA2-5EEE7596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8369-7143-4F5E-B72B-B56A1E40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522C-293A-41D5-B322-074B7235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F5B2-4BAF-4BF3-B4DD-184CDF54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78D-4680-4408-93B0-D5EBE841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E654-BCF5-409B-BA2B-4AE26798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8D72-6208-488F-9565-2637EE1D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8B83-09C4-447A-8B3D-52FBAEBC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45AF-38DA-472B-A542-F331B31E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BC57-A915-435C-9264-7E860FA5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9305-CEE0-4796-ADEB-CC420EE75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yra Quiñón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yra Quiñónez 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días ¿Cómo están uste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90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 mi nombre es Mayra. Vivo en Astoria, New York con mis dos hermanas y con mi hermano. Tengo catorce años. Yo soy alta pero soy calmada también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e tal. ¿cómo están todos? Yo estoy feliz Porque ya viene la navidad.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Yo estoy muy bien y tu como  esta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ec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74320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4:48:02Z</dcterms:created>
  <dc:creator>FriscoISD</dc:creator>
  <dc:description/>
  <dc:language>en-US</dc:language>
  <cp:lastModifiedBy>NYCDOE</cp:lastModifiedBy>
  <dcterms:modified xsi:type="dcterms:W3CDTF">2012-12-04T15:02:13Z</dcterms:modified>
  <cp:revision>104</cp:revision>
  <dc:subject/>
  <dc:title>Profile</dc:title>
</cp:coreProperties>
</file>